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3720" y="912960"/>
            <a:ext cx="6785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An Age of Democracy and Progress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815–1914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36800"/>
            <a:ext cx="675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mocratic ideals strongly affect Europe and its colonies, the United States expands its borders, and technology and science change daily lif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81280" y="1690560"/>
            <a:ext cx="39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anada Struggles for Self-Ru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73360" y="2174760"/>
            <a:ext cx="5800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ominion of 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adians want central government to prot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ests against 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67, Dominion of Canada for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omin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elf-governing but part of British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3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773360" y="370368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ada’s Westward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rst prime minister of Canada is John MacDona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ands Canada to Pacific, then buil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nscontinental railr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73360" y="159876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ustralia and New Zea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mes Cook Exp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tain Cook claims New Zealand (1769), par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 (177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k encounter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ao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native people of N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eal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native peoples called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borig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4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73360" y="424332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tain’s Penal Col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788, Britain starts colonizing Australia, makes 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al col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enal colo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place where convicts are sen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 their sent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pon release, prisoners could buy land and set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80920" y="1690560"/>
            <a:ext cx="358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ustralia and New Zeal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73360" y="2174760"/>
            <a:ext cx="5800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e Settlers Arr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 people eventually settle both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tlers introduce sheep; wool becomes major 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offers cheap land to encour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mi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5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73360" y="370044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ttling New Zea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ain recognizes Maori land rights until conflict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840, British recognize Maori land rights, r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Zea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80920" y="1690560"/>
            <a:ext cx="358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ustralia and New Zeal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2174760"/>
            <a:ext cx="58006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f-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arly 1900s, both Australia and New Zealand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mited self-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50s, Australians are first to use the secret bal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93, New Zealand the first nation to grant wo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ff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6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773360" y="397656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us of Native Peo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nists displace, kill many Maori and Aborigi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diseases also take a heavy to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1560" y="159876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Irish Win Home R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Troubled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lish expansion into, domination of Irel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gins in the 110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ish Catholic majority resents English la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voring Protesta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3360" y="371484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Great F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ish peasants depend heavily on potatoe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urish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45-184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tato famine destroys entire cro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million out of eight million people d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llions flee Ireland to U.S., Canada, Australi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80920" y="1690560"/>
            <a:ext cx="339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Irish Win Home Ru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73360" y="2174760"/>
            <a:ext cx="5800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mands for Home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Irish want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home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ocal control o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affai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e rule finally granted in 1914, postponed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ld War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8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73360" y="3686040"/>
            <a:ext cx="57369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bellion and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ustrated Irish nationalists stage failed Eas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rising in 19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Irish Republican Ar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unofficial military fo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king in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921, Ireland splits; Northern Ireland remains p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Bri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uth becomes Irish Free State, then Republic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reland in 194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1370880" y="2486160"/>
            <a:ext cx="6151680" cy="1640520"/>
            <a:chOff x="1370880" y="2486160"/>
            <a:chExt cx="6151680" cy="1640520"/>
          </a:xfrm>
        </p:grpSpPr>
        <p:sp>
          <p:nvSpPr>
            <p:cNvPr id="190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0880" y="2867040"/>
              <a:ext cx="615168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War and Expansion in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United States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370160" y="4133880"/>
            <a:ext cx="67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United States expands across North America and fights a civil w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75160" y="182736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mericans Move W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73360" y="240336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ifest Dest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anifest dest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U.S. has duty to rule ocean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.S. pushes Native Americans continuously wes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se 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0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71240" y="885960"/>
            <a:ext cx="483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War and Expansion in the</a:t>
            </a:r>
            <a:br>
              <a:rPr sz="3000"/>
            </a:b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United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73360" y="3890880"/>
            <a:ext cx="63752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as Joins the United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erican settlers enter Texas, grow unhappy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xican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 independence in 1836; U.S. annexes Texas in 1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73360" y="514368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r with Mex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48, U.S. wins Mexican War, gains southwes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853, Gadsden Purchase establishes 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bounda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74800" y="159876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ivil War Tests Democra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rth and S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th uses free labor, has both farm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th depends on slave labor, grows a few cas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ps (mainly cott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avery fuels disagreement over states’ righ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sus federal r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1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773360" y="424800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vil War Breaks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braham Lincol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elected in 1860, fierce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posed by Sou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thern stat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ece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withdraw from the 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U.S. Civil W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North defeats South after bit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ghting (1861–186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olition of Sla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mancipation Procla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Lincoln decla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southern slaves f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th’s army frees slaves as they push far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endments after war extend citizenship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ting to bl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2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779840" y="1690560"/>
            <a:ext cx="361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ivil War Tests Democrac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73360" y="424800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1865 to 1877, northern troops occupy South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force new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Reconstruction, troops leave and Southern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s new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e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separation of blacks and whi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comes policy in Sou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3720" y="912960"/>
            <a:ext cx="6785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An Age of Democracy and Progress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815–1914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3720" y="2502000"/>
            <a:ext cx="39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ocratic Reform and Activis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46960" y="3078000"/>
            <a:ext cx="35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-Rule for British Colon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3720" y="3591000"/>
            <a:ext cx="47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r and Expansion in the United St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3000" y="4129200"/>
            <a:ext cx="355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neteenth-Century Prog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74080" y="159876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Postwar Econo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1914 more than 20 million immigrants arr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Europe,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immigrants settle in West, Midwest,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theast 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migrants provide workforce needed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ustr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73360" y="422928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ailr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continental railroad links east and west in 18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most 200,000 miles of track cross U.S. by 19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lroads allow quick movement of goods and ra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3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369800" y="2486160"/>
            <a:ext cx="5487120" cy="1640520"/>
            <a:chOff x="1369800" y="2486160"/>
            <a:chExt cx="5487120" cy="1640520"/>
          </a:xfrm>
        </p:grpSpPr>
        <p:sp>
          <p:nvSpPr>
            <p:cNvPr id="240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69800" y="2867040"/>
              <a:ext cx="548712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Nineteenth-Century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Progress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370160" y="4148280"/>
            <a:ext cx="60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eakthroughs in science and technology transform daily life and entertai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72280" y="182736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67640" y="941400"/>
            <a:ext cx="55785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Nineteenth-Century Progres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73360" y="2403360"/>
            <a:ext cx="578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dison the Inven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omas Edison patents over 1,000 invention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earch labor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73000" y="182736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Inventions Make Life Eas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74800" y="3403440"/>
            <a:ext cx="5654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ll and Marconi Revolutionize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76, Alexander Graham Bell invents tele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95, Italian Guglielmo Marconi builds first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73360" y="469116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d Sparks the Automobile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80s, Germans invent first auto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nry Ford lowers cost with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ssembly 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 per wo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73360" y="5938920"/>
            <a:ext cx="62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right Brothers F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903, Wright brothers develop first working air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73360" y="2174760"/>
            <a:ext cx="5445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Germ Theory of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uis Pasteur discovers existence of bacte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observing fer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 and others quickly discover that bacte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use dis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ish surgeon Joseph Lister links bacteria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rgical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rilizing instruments reduces deaths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l researchers develop vaccines; c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 sani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771920" y="15937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ew Ideas in Medic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74800" y="217476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rwin Challeng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ditional Belief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harles Darw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English scientist develo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y of 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80s most people believe in “special creation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G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73360" y="159372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ew Ideas in Sc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774800" y="3699000"/>
            <a:ext cx="56548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rwin’s Theory of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rwin’s idea of natural selection says compet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vates fit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ttest then breed, their offspring share thei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dually, over generations, species change; n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es evol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Theory of 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species change slow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 natural se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74800" y="2174760"/>
            <a:ext cx="5465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ndel and Gen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rian monk Gregor Mendel discovers patter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inherited tra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ndel’s work begins the science of gen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8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779480" y="1690560"/>
            <a:ext cx="305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New Ideas in Sci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74800" y="3432240"/>
            <a:ext cx="56548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vances in Chemistry and Phy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03, John Dalton theorizes all matter is ma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69, Dmitri Mendeleev creates periodic tabl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Radioac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type of energy discovered by Mar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ierre Cur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nest Rutherford says atoms have a nucle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rrounded by electr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74800" y="2174760"/>
            <a:ext cx="54658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Ideas in Social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iences of archaeology, sociology, anthropolo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gin in 180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sych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tudy of human mind,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an Pavlov believes human actions actual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conscious rea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mund Freud studies unconscious, develo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sycho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eud, Pavlov shake Enlightenment’s faith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as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74800" y="159372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Social Sciences Explore Behav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9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74800" y="2174760"/>
            <a:ext cx="5894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Leisure Culture to Mass 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ass 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rt, music, writing, entertainment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ge aud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73360" y="159372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Rise of Mass Cul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0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774800" y="3122640"/>
            <a:ext cx="5654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ges Produce Mass 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isure activities (movies, music) now availabl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73360" y="407664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sic Halls, Vaudeville, and Mov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veling acts feature music, juggling, da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880s, people develop early projection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ving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the early 1900s, filmmakers produce the fir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fil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82720" y="5815080"/>
            <a:ext cx="5737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orts Entertain Mill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ectator sports draw huge crowds; mode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lympics in Greece, 189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05160" y="1274760"/>
            <a:ext cx="5457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69800" y="2486160"/>
            <a:ext cx="6630120" cy="1640520"/>
            <a:chOff x="1369800" y="2486160"/>
            <a:chExt cx="6630120" cy="1640520"/>
          </a:xfrm>
        </p:grpSpPr>
        <p:sp>
          <p:nvSpPr>
            <p:cNvPr id="61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69800" y="2867040"/>
              <a:ext cx="663012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Democratic Reform and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Activism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372320" y="4094280"/>
            <a:ext cx="553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urred by the demands of the peopl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eat Britain and France underw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ocratic ref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4800" y="182736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Britain Enacts Re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941400"/>
            <a:ext cx="62737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Democratic Reform and Activis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2403360"/>
            <a:ext cx="5667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everely Limited Democ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early 1800s, vote limited to men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stantial proper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men could not vote at all; upper classes (5%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 the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73360" y="3898800"/>
            <a:ext cx="573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form Bill of 18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32 bill gives middle clas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uffr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the righ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so gives thriving new industrial cities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74800" y="217476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rtist M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hartist mov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expands suffrage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orm poli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ands suffrage for all men, secret vo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liamentary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liament at first rejects, but eventually adopt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tist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0200" y="1690560"/>
            <a:ext cx="32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Britain Enacts Refor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73360" y="4251240"/>
            <a:ext cx="58132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Victorian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Queen Victo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rules for 64 years at heigh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itish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es power to Parliament, especially Hous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ment run almost completely by pr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, cabi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72280" y="159876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Women Get the Vo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773360" y="2174760"/>
            <a:ext cx="56466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zation and Re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women organize to win the right to v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argue against it as too radical a break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s say women do not have ability to engag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73360" y="3975120"/>
            <a:ext cx="58132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litant Pro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meline Pankhurst forms Women’s Social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1903, WSPU members protest, go to jail, st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nger stri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omen do not win suffrage in Britain and U.S. unt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World War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6600" y="159876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France and Democra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773360" y="21747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ird Re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 changes governments repeatedly af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o-Prussian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hird Re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French government formed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75, lasts 60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3360" y="369900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reyfus Af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reyfus aff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py controversy over Jewish offic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French ar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nti-Semit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prejudice against Jews, strong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of Euro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eventually declares Captain Alf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eyfus inno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73360" y="576756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ise of Zio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Zio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movement for Jewish homeland—gro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Dreyfus aff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0160" y="3940200"/>
            <a:ext cx="678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itain allows self-rule in Canada, Australia, and New Zealand but delays it for Ire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70160" y="2397240"/>
            <a:ext cx="6800400" cy="1581480"/>
            <a:chOff x="1370160" y="2397240"/>
            <a:chExt cx="6800400" cy="1581480"/>
          </a:xfrm>
        </p:grpSpPr>
        <p:sp>
          <p:nvSpPr>
            <p:cNvPr id="111" name=""/>
            <p:cNvSpPr/>
            <p:nvPr/>
          </p:nvSpPr>
          <p:spPr>
            <a:xfrm>
              <a:off x="1370160" y="2397240"/>
              <a:ext cx="43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0160" y="2787480"/>
              <a:ext cx="680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Self-Rule for British Colonies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73360" y="1827360"/>
            <a:ext cx="47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anada Struggles for Self-R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71960" y="941400"/>
            <a:ext cx="55742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Self-Rule for British Coloni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73360" y="2403360"/>
            <a:ext cx="58640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nch and English 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ada was originally home to many Na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erican peo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r, problems between Catholic French, Protest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lish sett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ada split: Upper Canada (English), L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ada (Fren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2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73360" y="4491000"/>
            <a:ext cx="58100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urham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vision eases tensions, but upper class hol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dle class demands more reform, produc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bellions in 183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liament approves Lord Durham’s chan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owing more self-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3:35:41Z</dcterms:modified>
  <cp:revision>858</cp:revision>
  <dc:subject/>
  <dc:title>No Slide Title</dc:title>
</cp:coreProperties>
</file>